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95A-BBAB-49D1-9AE0-9E2E2865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4DD-5F76-4258-A56F-AA7B87E2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8CC-974A-43E7-95F6-52AB007F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06A-C858-481A-8497-F4D6CD2A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8AB2-9D4F-42D8-AED3-465C7373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1147-1937-4076-A5B7-1B4501D6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73FA-2810-482D-BC2B-92534FFF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1304-BDF3-49EF-8781-87D00BFC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9DEE-BA15-4523-A6B5-3C521786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9A75-58D5-4BAB-99F7-0127813E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29D0-6F40-4C05-9F7B-A2BF7C81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73B-4B2D-4312-AACF-FA15F5A7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7268-52F2-484F-8CF8-9E4E7476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D0FD-B366-405D-B48C-D0F91F4C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1945-9947-4FF8-A279-19E1A97D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42CE-1C55-4DE1-B591-34A91FAC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09C5-F194-4B1A-B0D8-E5740405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154-8824-48F6-8CA5-C8BD57DF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42E-5950-49E0-8F92-9CF61575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B0E-6702-44A4-92BD-9AF322AB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7D0-CCE4-466C-B84F-AD1DC17A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964-05E8-4CD8-B9EF-5F5FB3D2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895-0863-4670-8879-E05EF20A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FFF-EDBC-4A89-8877-F0DDB9D8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BB6F-12F2-4F4F-941F-81CD9DA416A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895E-2356-4349-A4AD-50AE5D874E2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Spanish cla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Mizraim y jeremia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La famil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Mam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Pap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Hermano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Herm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Los color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Az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Roj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Neg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Amall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962520" y="5334120"/>
            <a:ext cx="5181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El ban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25:13Z</dcterms:created>
  <dc:creator>WSFCS Workstation</dc:creator>
  <dc:description/>
  <dc:language>en-US</dc:language>
  <cp:lastModifiedBy>WSFCS Workstation</cp:lastModifiedBy>
  <dcterms:modified xsi:type="dcterms:W3CDTF">2010-04-28T18:56:57Z</dcterms:modified>
  <cp:revision>3</cp:revision>
  <dc:subject/>
  <dc:title>Spanish class</dc:title>
</cp:coreProperties>
</file>